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F8D89EC-E0D0-4998-94A9-6B31B448DD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58320" y="4509720"/>
            <a:ext cx="5270760" cy="4275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400" bIns="504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228680" y="719280"/>
            <a:ext cx="4730760" cy="3547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2827C04-3D49-4A78-8243-022AEF5BD03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F4995A5-ACD0-4FBA-B22E-37CD831BF4B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ectures/v3.2%20(6)%20Design%20and%20code%20reviews.ppt" TargetMode="External"/><Relationship Id="rId2" Type="http://schemas.openxmlformats.org/officeDocument/2006/relationships/hyperlink" Target="file:///../Lectures/v3.2%20(7)%20Software%20quality.ppt" TargetMode="External"/><Relationship Id="rId3" Type="http://schemas.openxmlformats.org/officeDocument/2006/relationships/hyperlink" Target="file:///../Tutorials/v3.2%20Design%20and%20code%20reviews.ppt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Tutorials/v3.2.1%20PSP2.ppt" TargetMode="External"/><Relationship Id="rId2" Type="http://schemas.openxmlformats.org/officeDocument/2006/relationships/hyperlink" Target="file:///../Tutorials/v3.2PSP20EX.doc" TargetMode="External"/><Relationship Id="rId3" Type="http://schemas.openxmlformats.org/officeDocument/2006/relationships/hyperlink" Target="file:///../Tutorials/v3.2.1PSP20EXans.doc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50480" y="926640"/>
            <a:ext cx="8093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Over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or Avai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s will be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class hours each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lass by phone or e-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pec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9880" y="1450800"/>
            <a:ext cx="7748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learn the PSP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ed re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ing the class lectures, tutorials, and worksho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plan to spend two weeks of classroom time and up to an additional week outside the class to complete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student is expected to be able and will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his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round Rules for Cla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7840" y="1447560"/>
            <a:ext cx="7785000" cy="4143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here on time; we will start on time each 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 all sessions; discuss any exceptions with instru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is room a “quiet zone” during lab periods; move conversations outs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use the PSP techniques and methods on the assignments. Your goal is to learn the process, not to writ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s must be correct, complete, and in the proper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overvie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esign and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Software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sign and code review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500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41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Using PSP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PSP2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PSP2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7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8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41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9A worksho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and using the TS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10A worksho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work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R5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4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Feedback and Evalu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408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Ho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96760" y="1739880"/>
            <a:ext cx="75600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24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96760" y="1739520"/>
            <a:ext cx="7560000" cy="27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t. Eff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-1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6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3040" y="1449360"/>
            <a:ext cx="800748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logistics and building 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an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8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63" name="Picture 1029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Course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25040" y="1450800"/>
            <a:ext cx="7977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062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software process course.  The objectiv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you to a process-based approach to developing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measure and analyze your personal software process (PS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use process data to improve your personal perform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apply these methods to other structured ta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Course Inform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know a programming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have completed the pre-rea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iarity with basic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to read simple formal no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development environm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 and Excel cap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316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560" y="1450440"/>
            <a:ext cx="3792600" cy="37609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: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xy-based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0600" y="1447920"/>
            <a:ext cx="3703680" cy="4208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I: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 and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Structur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784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course reading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course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cture:  review key topics from text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uto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course ho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Evalu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actors that affect your evaluation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the data that you sub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and self-consisten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ordered and formatted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analysis of your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07T16:15:32Z</cp:lastPrinted>
  <dcterms:modified xsi:type="dcterms:W3CDTF">2018-09-06T00:16:51Z</dcterms:modified>
  <cp:revision>83</cp:revision>
  <dc:subject/>
  <dc:title>No Slide Title</dc:title>
</cp:coreProperties>
</file>